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23B0-877A-4F88-8A3F-E73C3EF0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2C12-7CD7-43D2-BF34-5945A931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C64E-2622-4023-9F5F-0189F5133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88BC-934A-40B6-85CD-617B6681B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5B05-4B68-4260-A178-2F6BCF09D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EFE-AB83-4F70-B32F-F5EFAC2E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305B-34A8-4512-8CE0-D30BDDA3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F280-3355-467E-9425-BD07C4FD5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BE11-F574-445A-8989-7BAE3157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F132-CA6C-49F0-8432-132093852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3DE-56FF-4D9D-8626-4E882C23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37B-C5AD-4148-B1BE-3EA5A010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A68-E157-44DC-9F22-D108CE9C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DA0-DAC6-4FCD-AF0D-1FD02EE3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A1B-8504-4BA2-84A9-2A59B7C1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0D4-70BB-411A-8A3F-59BB718B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35E-4CFD-404E-A52C-B3D7BF17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F5C-6A69-4570-94DC-4305669F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094-FD54-4C75-8315-3F87822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2E3-500E-45E1-9C65-A91F91C7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9E3-FE5F-4572-8004-52F3A8E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230-48EF-4F32-944F-81DD3DC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4012-A6FC-4818-BE30-FC519FDFB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5714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ward to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800600" y="4038480"/>
            <a:ext cx="19303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772400" y="571644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80880" y="762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tex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31240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autho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rcRect l="7501" t="0" r="7501" b="0"/>
          <a:stretch/>
        </p:blipFill>
        <p:spPr>
          <a:xfrm>
            <a:off x="6172200" y="228600"/>
            <a:ext cx="194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r and appropriate targets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’s important in your fie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state it clea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 it might look like if students hit your targ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3520" y="19810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666880" y="4343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Chapter 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cus is o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arning tar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will need to revisit this da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5800" y="3200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urate assessment is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r Assessment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Bias and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648320" y="480060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a conglome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ok is sort of like tha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assessment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nd assessment requires 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Lit.: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952880" y="4648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part III of the boo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 will condense it like a trash comp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3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4724280" y="1905120"/>
            <a:ext cx="2338560" cy="103320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4678920" y="19065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 flipH="1">
            <a:off x="46479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2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36"/>
          <p:cNvSpPr txBox="1"/>
          <p:nvPr/>
        </p:nvSpPr>
        <p:spPr>
          <a:xfrm>
            <a:off x="152280" y="228600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2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37"/>
          <p:cNvSpPr txBox="1"/>
          <p:nvPr/>
        </p:nvSpPr>
        <p:spPr>
          <a:xfrm>
            <a:off x="7238880" y="220968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39"/>
          <p:cNvSpPr txBox="1"/>
          <p:nvPr/>
        </p:nvSpPr>
        <p:spPr>
          <a:xfrm>
            <a:off x="1219320" y="3429000"/>
            <a:ext cx="17906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4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40"/>
          <p:cNvSpPr txBox="1"/>
          <p:nvPr/>
        </p:nvSpPr>
        <p:spPr>
          <a:xfrm>
            <a:off x="6019920" y="3962520"/>
            <a:ext cx="2819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5, 6, 7, 8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ction Button: Custom 5">
            <a:hlinkClick r:id="rId1" action="ppaction://hlinksldjump"/>
          </p:cNvPr>
          <p:cNvSpPr/>
          <p:nvPr/>
        </p:nvSpPr>
        <p:spPr>
          <a:xfrm>
            <a:off x="304920" y="304920"/>
            <a:ext cx="8534160" cy="6400800"/>
          </a:xfrm>
          <a:custGeom>
            <a:avLst/>
            <a:gdLst>
              <a:gd name="textAreaLeft" fmla="*/ 414720 w 8534160"/>
              <a:gd name="textAreaRight" fmla="*/ 8119440 w 8534160"/>
              <a:gd name="textAreaTop" fmla="*/ 414720 h 6400800"/>
              <a:gd name="textAreaBottom" fmla="*/ 5986080 h 6400800"/>
            </a:gdLst>
            <a:ahLst/>
            <a:rect l="textAreaLeft" t="textAreaTop" r="textAreaRight" b="textAreaBottom"/>
            <a:pathLst>
              <a:path w="28799" h="21600">
                <a:moveTo>
                  <a:pt x="0" y="0"/>
                </a:moveTo>
                <a:lnTo>
                  <a:pt x="28799" y="0"/>
                </a:lnTo>
                <a:lnTo>
                  <a:pt x="28799" y="21600"/>
                </a:lnTo>
                <a:lnTo>
                  <a:pt x="0" y="21600"/>
                </a:lnTo>
                <a:close/>
              </a:path>
              <a:path fill="lightenLess" w="28799" h="21600">
                <a:moveTo>
                  <a:pt x="0" y="0"/>
                </a:moveTo>
                <a:lnTo>
                  <a:pt x="28799" y="0"/>
                </a:lnTo>
                <a:lnTo>
                  <a:pt x="27399" y="1400"/>
                </a:lnTo>
                <a:lnTo>
                  <a:pt x="1400" y="1400"/>
                </a:lnTo>
                <a:close/>
              </a:path>
              <a:path fill="darken" w="28799" h="21600">
                <a:moveTo>
                  <a:pt x="28799" y="0"/>
                </a:moveTo>
                <a:lnTo>
                  <a:pt x="28799" y="21600"/>
                </a:lnTo>
                <a:lnTo>
                  <a:pt x="27399" y="20200"/>
                </a:lnTo>
                <a:lnTo>
                  <a:pt x="27399" y="1400"/>
                </a:lnTo>
                <a:close/>
              </a:path>
              <a:path fill="darkenLess" w="28799" h="21600">
                <a:moveTo>
                  <a:pt x="28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9" y="20200"/>
                </a:lnTo>
                <a:close/>
              </a:path>
              <a:path fill="lighten" w="28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is the process of gathering evidence of student learning in order to inform instructional decision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iggins - 5th ed. page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195588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30099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read “A Story of Assessment for Student Success” (p. 6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realistic?  Would it work in your school?  Why or why no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ust be authentically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ust set good targets and evalua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activities must match targets,  must be tuned to learner’s initial state and well sequenced there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ust communicate effectively to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must be accur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ed to take responsibility for their own lear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nging role o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ggins claims that schools have moved from rank ordering students to ensuring their achievement of a specified level of accomplish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f th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4900680" y="1919160"/>
            <a:ext cx="2338200" cy="103356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854960" y="19209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H="1">
            <a:off x="48765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392040" y="647712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1.2, p. 20 –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-Involv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sess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the result of changes made in the mind of the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assessment must be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-leve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666880" y="4343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Chapter 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cus is o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urpos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 assess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will need to revisit this in the Pre-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7:23:31Z</dcterms:created>
  <dc:creator>Mark Roddy</dc:creator>
  <dc:description/>
  <dc:language>en-US</dc:language>
  <cp:lastModifiedBy>Seattle University</cp:lastModifiedBy>
  <dcterms:modified xsi:type="dcterms:W3CDTF">2011-01-03T22:38:57Z</dcterms:modified>
  <cp:revision>20</cp:revision>
  <dc:subject/>
  <dc:title>Onward to Chapter 1</dc:title>
</cp:coreProperties>
</file>